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8207-D8CF-47FE-B9C4-22DEB24ADB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I’m 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alk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kinds of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motivated by key observation: change pain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st take my word for i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o other dist system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difference: can’t just install new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: so use mobile co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he vis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ways to go abou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S is pretty aggressive, far beyond commer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change over the past few years: acceptance of the role of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onto 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control,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… arbitrating resource requests,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all we need to build is a scalable, robust, efficient, secure and extensible distributed system … there were complications on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0000" y="6732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9360" y="4324320"/>
            <a:ext cx="5072040" cy="4098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something to run programs on … active nodes … incrementally deployable / back com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provide api. Our is lightweight – soft-state is a key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provide protection by running programs safely, limit packet rewriting for security and debu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do the resou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0000" y="6732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9360" y="4324320"/>
            <a:ext cx="5072040" cy="4098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159C-6822-4AD2-B35A-65DA045D3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F3DF-E2FF-4109-BA6C-73E4EA818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2F4E-C078-4303-9ECB-9CFDC7A10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443D-5EE4-42DE-9066-CD8454D57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96DC-3621-4C97-ACE2-233E72C8E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6E8B-3088-4106-8EFE-9F662C1A1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A7B4-4ACB-40C0-AC1A-A076C19C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8046-029A-46F4-AB0A-15811BAE6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9777-5378-4529-9E13-595FB921A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B6AA-6D2F-4BD3-ADB3-41D2ACBA0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879E-5229-403D-817F-EFF9C4AE9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5A9D-982D-496A-95D4-7E0CBC1BF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troke-g1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795312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2944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jw // SOSP // 12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5C1-BA71-418E-A48D-60FD68A71EE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roke-g1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795348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1000" y="685440"/>
            <a:ext cx="828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tive Network Vision and Reality:</a:t>
            </a:r>
            <a:br>
              <a:rPr sz="2800"/>
            </a:br>
            <a:r>
              <a:rPr b="1" lang="en-US" sz="2400" spc="-1" strike="noStrike">
                <a:solidFill>
                  <a:srgbClr val="5e574e"/>
                </a:solidFill>
                <a:latin typeface="Verdana"/>
              </a:rPr>
              <a:t>Lessons from a Capsule-based Syste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9343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vid Wethera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thanks to David Tennenhouse, John Guttag, Steve Garland, Ulana Legedza, Erik Nygren, and members of   the MIT SDS gro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 — ANTS Toolk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r-level reference platfor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~10,000 lines, 100% Java, UDP overl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des build on Java prot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blicly released for two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www.cs.washington.edu/homes/djw/ants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d at MIT, Utah, TIS, TASC, SRI, UIUC, UCLA,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043F-F4F9-4767-9212-C45EF4FD5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Lessons Learn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ested in three dimens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and Resource Manag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9523-7DCF-4AB4-9FD0-949A1290C0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a. Application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Can we deploy important service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osen approach lets users select independent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s constrained by active nod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Y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ll-suited to experimenting w/ protocol variations (rather than computation pushed into networ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ceptions: enforcing policy at a point (firewalls) and resource control (guaranteed serv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0563-DCEB-42E9-B012-35A0E6C5B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s We’ve Writ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b cache diversion rou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CP-SYN” filter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iable Multicast supp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lticast (single source, PIM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th MTU discov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25146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7560" y="2133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16840" y="4876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2D48-29BB-4981-8284-8C62879F5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b. Performance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Is performance a show-stoppe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del is more expensive than 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No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ry few extra steps over IP in common case and extra steps (demux, safe eval) known to run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available vs. required compu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 1GHz, 1Gbps, 1000b, 100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000 cy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9E9E-9B97-416A-B3B5-D0D084E9F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d Perform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828800"/>
          <a:ext cx="335268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3526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105520" y="1905120"/>
          <a:ext cx="332424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05120"/>
                    <a:ext cx="3324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514160" y="571500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580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040" y="2133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4040" y="4191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736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7360" y="327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27360" y="274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5520" y="506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040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17040" y="5105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8520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10080" y="516564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4880" y="5181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" y="32004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20240" y="3733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16320" y="236232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33920" y="3962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6880" y="4603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70960" y="42670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2160" y="32767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2544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A93E-84B3-4468-84C8-7D1574C20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c. Security and Resource Mgmt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Can untrusted users program the network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to isolate services and protect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Partly. This is difficult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Prot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y program can’t corrupt your progra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Resource Manag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y program can’t starve you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Not s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BC19-4277-47AB-A16A-980FA4040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ndling of Resource Mgmt Tas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2133720"/>
          <a:ext cx="6705360" cy="3489120"/>
        </p:xfrm>
        <a:graphic>
          <a:graphicData uri="http://schemas.openxmlformats.org/drawingml/2006/table">
            <a:tbl>
              <a:tblPr/>
              <a:tblGrid>
                <a:gridCol w="2238120"/>
                <a:gridCol w="2409840"/>
                <a:gridCol w="20574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Pack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Rou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by design of 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for simpl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Pack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ng Pa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by protocol desig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oops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e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ed FQ or penalty bo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e as Int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6A7C-FED4-4E5F-8162-69C4AB2314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of Buggy Multicas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should we prevent thi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TLs are a weak solution; not related to topolo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irness mechanisms mitigate, but not enoug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TS falls back on certification of programs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3429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209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267080" y="2666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429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35053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6576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7339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8840" y="27432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7240" y="2301840"/>
            <a:ext cx="15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p th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27F2-1E0D-40A7-A4BD-8BAFBA68EF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important applic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rformance is not the limiting fac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is not the limiting fac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 Management remains problemat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79E7-F863-4526-8650-698625E6DF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s Tal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ve netw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S, our active network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6D2E-80E7-492D-B050-1EDCF8B70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Active Networks — Motiv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twork change is excruciatingly sl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despread consensus, manual deploy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gestion (RED ‘93); More Addresses (IPv6 ‘91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(IPSEC ‘93); Multi-point (IP multicast ‘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as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 (‘93); Quake (‘96); Instant Messaging (‘9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2511000" y="56386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th fixing? Your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D83D-10D0-4EC5-AE87-6F6D10188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tive Networks — Approa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ly mobile code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se deployment; accelerate pace of 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Cloud"/>
          <p:cNvSpPr/>
          <p:nvPr/>
        </p:nvSpPr>
        <p:spPr>
          <a:xfrm rot="297600">
            <a:off x="4343040" y="3428640"/>
            <a:ext cx="2743200" cy="18381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3581280"/>
            <a:ext cx="1447920" cy="482760"/>
          </a:xfrm>
          <a:custGeom>
            <a:avLst/>
            <a:gdLst/>
            <a:ahLst/>
            <a:rect l="l" t="t" r="r" b="b"/>
            <a:pathLst>
              <a:path w="1800" h="456">
                <a:moveTo>
                  <a:pt x="0" y="392"/>
                </a:moveTo>
                <a:cubicBezTo>
                  <a:pt x="8" y="372"/>
                  <a:pt x="16" y="352"/>
                  <a:pt x="96" y="296"/>
                </a:cubicBezTo>
                <a:cubicBezTo>
                  <a:pt x="176" y="240"/>
                  <a:pt x="320" y="96"/>
                  <a:pt x="480" y="56"/>
                </a:cubicBezTo>
                <a:cubicBezTo>
                  <a:pt x="640" y="16"/>
                  <a:pt x="856" y="0"/>
                  <a:pt x="1056" y="56"/>
                </a:cubicBezTo>
                <a:cubicBezTo>
                  <a:pt x="1256" y="112"/>
                  <a:pt x="1560" y="328"/>
                  <a:pt x="1680" y="392"/>
                </a:cubicBezTo>
                <a:cubicBezTo>
                  <a:pt x="1800" y="456"/>
                  <a:pt x="1788" y="448"/>
                  <a:pt x="1776" y="44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267080"/>
            <a:ext cx="1447920" cy="482760"/>
          </a:xfrm>
          <a:custGeom>
            <a:avLst/>
            <a:gdLst/>
            <a:ahLst/>
            <a:rect l="l" t="t" r="r" b="b"/>
            <a:pathLst>
              <a:path w="1800" h="456">
                <a:moveTo>
                  <a:pt x="0" y="392"/>
                </a:moveTo>
                <a:cubicBezTo>
                  <a:pt x="8" y="372"/>
                  <a:pt x="16" y="352"/>
                  <a:pt x="96" y="296"/>
                </a:cubicBezTo>
                <a:cubicBezTo>
                  <a:pt x="176" y="240"/>
                  <a:pt x="320" y="96"/>
                  <a:pt x="480" y="56"/>
                </a:cubicBezTo>
                <a:cubicBezTo>
                  <a:pt x="640" y="16"/>
                  <a:pt x="856" y="0"/>
                  <a:pt x="1056" y="56"/>
                </a:cubicBezTo>
                <a:cubicBezTo>
                  <a:pt x="1256" y="112"/>
                  <a:pt x="1560" y="328"/>
                  <a:pt x="1680" y="392"/>
                </a:cubicBezTo>
                <a:cubicBezTo>
                  <a:pt x="1800" y="456"/>
                  <a:pt x="1788" y="448"/>
                  <a:pt x="1776" y="44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495680"/>
            <a:ext cx="6094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3809880"/>
            <a:ext cx="457200" cy="381240"/>
          </a:xfrm>
          <a:custGeom>
            <a:avLst/>
            <a:gdLst>
              <a:gd name="textAreaLeft" fmla="*/ 100440 w 457200"/>
              <a:gd name="textAreaRight" fmla="*/ 356760 w 45720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29120" y="380988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2200" y="3733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4680" y="449568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1286-0229-48BA-9795-104A7FDBD8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146480" y="2195640"/>
            <a:ext cx="140652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Active Net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695960" y="556272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TS explores an aggressive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520" y="46483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6160" y="40384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4680" y="20574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88600" y="4724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32600" y="4724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0560" y="2120040"/>
            <a:ext cx="1200960" cy="82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0320" y="2804400"/>
            <a:ext cx="97704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4440" y="2575800"/>
            <a:ext cx="116676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4160" y="3872160"/>
            <a:ext cx="1242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280" y="2881800"/>
            <a:ext cx="1350360" cy="82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7800" y="3871080"/>
            <a:ext cx="85644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94920" y="2194560"/>
            <a:ext cx="1335240" cy="649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8640" y="3490200"/>
            <a:ext cx="10332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9D9A-B500-449E-BF28-7F0631856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ANTS, Starting at 10,000 f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oal: Let each user control their packe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Cloud"/>
          <p:cNvSpPr/>
          <p:nvPr/>
        </p:nvSpPr>
        <p:spPr>
          <a:xfrm rot="319200">
            <a:off x="3352320" y="2997360"/>
            <a:ext cx="2743200" cy="18381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064040"/>
            <a:ext cx="5181480" cy="965160"/>
          </a:xfrm>
          <a:custGeom>
            <a:avLst/>
            <a:gdLst/>
            <a:ahLst/>
            <a:rect l="l" t="t" r="r" b="b"/>
            <a:pathLst>
              <a:path w="3264" h="608">
                <a:moveTo>
                  <a:pt x="0" y="608"/>
                </a:moveTo>
                <a:cubicBezTo>
                  <a:pt x="520" y="336"/>
                  <a:pt x="1040" y="64"/>
                  <a:pt x="1584" y="32"/>
                </a:cubicBezTo>
                <a:cubicBezTo>
                  <a:pt x="2128" y="0"/>
                  <a:pt x="2696" y="208"/>
                  <a:pt x="3264" y="416"/>
                </a:cubicBezTo>
              </a:path>
            </a:pathLst>
          </a:custGeom>
          <a:noFill/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659800">
            <a:off x="2742840" y="2514240"/>
            <a:ext cx="4572000" cy="1625760"/>
          </a:xfrm>
          <a:custGeom>
            <a:avLst/>
            <a:gdLst/>
            <a:ahLst/>
            <a:rect l="l" t="t" r="r" b="b"/>
            <a:pathLst>
              <a:path w="2880" h="1024">
                <a:moveTo>
                  <a:pt x="0" y="0"/>
                </a:moveTo>
                <a:cubicBezTo>
                  <a:pt x="312" y="352"/>
                  <a:pt x="624" y="704"/>
                  <a:pt x="1104" y="864"/>
                </a:cubicBezTo>
                <a:cubicBezTo>
                  <a:pt x="1584" y="1024"/>
                  <a:pt x="2232" y="992"/>
                  <a:pt x="2880" y="96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8520" y="282888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/E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61800" y="465768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383544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514680"/>
            <a:ext cx="38124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21632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60684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95560"/>
            <a:ext cx="38124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42163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74984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52124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3019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53052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720" y="27525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7080" y="49021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334120" y="4292280"/>
            <a:ext cx="457200" cy="66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705720" y="320976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280" y="591804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we build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760" y="32860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F82D-A583-4D0D-963B-A01BC0BE4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tive Nodes Host New Servi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provide API for new service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ft-storage, routing, environment queries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acket manipu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run service code safe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tect state at node; enforce packet invari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manage local resour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und code runtimes and other resour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AF2F-1AD9-45E2-A07C-AD0016D2D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de Follows Packets As Need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e code distribution to packet forward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d-systems pre-load code, active nodes loa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op-by-hop as needed and then cach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429000"/>
            <a:ext cx="0" cy="235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505320"/>
            <a:ext cx="0" cy="2584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4240" y="3581280"/>
            <a:ext cx="288936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498840"/>
            <a:ext cx="673200" cy="216000"/>
          </a:xfrm>
          <a:custGeom>
            <a:avLst/>
            <a:gdLst>
              <a:gd name="textAreaLeft" fmla="*/ 0 w 673200"/>
              <a:gd name="textAreaRight" fmla="*/ 67356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8440" y="5349960"/>
            <a:ext cx="673200" cy="215640"/>
          </a:xfrm>
          <a:custGeom>
            <a:avLst/>
            <a:gdLst>
              <a:gd name="textAreaLeft" fmla="*/ 0 w 673200"/>
              <a:gd name="textAreaRight" fmla="*/ 673560 w 673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562720"/>
            <a:ext cx="672840" cy="215640"/>
          </a:xfrm>
          <a:custGeom>
            <a:avLst/>
            <a:gdLst>
              <a:gd name="textAreaLeft" fmla="*/ 0 w 672840"/>
              <a:gd name="textAreaRight" fmla="*/ 672840 w 672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68840" y="4130640"/>
            <a:ext cx="673200" cy="216000"/>
          </a:xfrm>
          <a:custGeom>
            <a:avLst/>
            <a:gdLst>
              <a:gd name="textAreaLeft" fmla="*/ 360 w 673200"/>
              <a:gd name="textAreaRight" fmla="*/ 67392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5197320"/>
            <a:ext cx="672840" cy="216000"/>
          </a:xfrm>
          <a:custGeom>
            <a:avLst/>
            <a:gdLst>
              <a:gd name="textAreaLeft" fmla="*/ 0 w 672840"/>
              <a:gd name="textAreaRight" fmla="*/ 672840 w 672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6160" y="5045040"/>
            <a:ext cx="673200" cy="216000"/>
          </a:xfrm>
          <a:custGeom>
            <a:avLst/>
            <a:gdLst>
              <a:gd name="textAreaLeft" fmla="*/ 0 w 673200"/>
              <a:gd name="textAreaRight" fmla="*/ 67356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21080" y="4282920"/>
            <a:ext cx="2813040" cy="60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0560" y="5181480"/>
            <a:ext cx="266076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4120" y="39625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28480" y="3946680"/>
            <a:ext cx="108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040" y="4387680"/>
            <a:ext cx="1169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4876920"/>
            <a:ext cx="0" cy="10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7480" y="510552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2840" y="5334120"/>
            <a:ext cx="266076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040360"/>
            <a:ext cx="266076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0720" y="5241960"/>
            <a:ext cx="140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696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19040" y="58514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C19A-A23A-432D-965D-94B5C1E73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ckets Refer To Code They Ne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ference is based on fingerpri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fficient: MD5 is 128 bits, quick to compu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vents code spoofing: verify without tru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need for standards body: distributed nam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28600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1981080"/>
            <a:ext cx="2895480" cy="533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98120" y="19731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819520"/>
            <a:ext cx="160020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6480" y="281160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209680"/>
            <a:ext cx="2095560" cy="685800"/>
          </a:xfrm>
          <a:custGeom>
            <a:avLst/>
            <a:gdLst/>
            <a:ahLst/>
            <a:rect l="l" t="t" r="r" b="b"/>
            <a:pathLst>
              <a:path w="1320" h="528">
                <a:moveTo>
                  <a:pt x="1296" y="0"/>
                </a:moveTo>
                <a:cubicBezTo>
                  <a:pt x="1308" y="192"/>
                  <a:pt x="1320" y="384"/>
                  <a:pt x="1200" y="432"/>
                </a:cubicBezTo>
                <a:cubicBezTo>
                  <a:pt x="1080" y="480"/>
                  <a:pt x="744" y="312"/>
                  <a:pt x="576" y="288"/>
                </a:cubicBezTo>
                <a:cubicBezTo>
                  <a:pt x="408" y="264"/>
                  <a:pt x="288" y="248"/>
                  <a:pt x="192" y="288"/>
                </a:cubicBezTo>
                <a:cubicBezTo>
                  <a:pt x="96" y="328"/>
                  <a:pt x="48" y="428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8440" y="2743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038480" y="2819160"/>
            <a:ext cx="4572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EA6E-9C37-4289-935D-1444E8F35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3:00:51Z</dcterms:created>
  <dc:creator>David Wetherall</dc:creator>
  <dc:description/>
  <dc:language>en-US</dc:language>
  <cp:lastModifiedBy>Neil Stratford</cp:lastModifiedBy>
  <dcterms:modified xsi:type="dcterms:W3CDTF">2000-01-31T13:37:16Z</dcterms:modified>
  <cp:revision>51</cp:revision>
  <dc:subject/>
  <dc:title>Active Network Vision and Reality: Lessons from a Capsule-based System</dc:title>
</cp:coreProperties>
</file>